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2A00-A7E3-4D6E-BDBD-A55E143A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AD91-4EF0-42F5-803A-2F005DDF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77AB-52D7-4869-B301-8BE8D748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DC5F-21A9-498F-8AAF-B3426024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52A2-CF78-4ED1-B681-9AE53BE2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8EE6-C595-448A-B87B-776B4580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838A-87B6-4E7B-8C7E-CEC595B2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E3E2-6C1C-4F5F-B89A-53D5EA37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3812-DC80-4684-A162-748E3DFC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03A2-23B1-42C7-BEA2-E856446B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FA80-3DCE-42C8-B0C0-2CE0A25A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9D22-B5F8-44E8-B736-72E96253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2F88-6CF3-4E82-823D-5F405855D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82880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rashHand"/>
              </a:rPr>
              <a:t>Imparare a</a:t>
            </a:r>
            <a:r>
              <a:rPr b="0" lang="en-US" sz="5400" spc="-1" strike="noStrike">
                <a:solidFill>
                  <a:srgbClr val="000000"/>
                </a:solidFill>
                <a:latin typeface="TrashHand"/>
              </a:rPr>
              <a:t>/</a:t>
            </a:r>
            <a:r>
              <a:rPr b="0" lang="en-US" sz="7200" spc="-1" strike="noStrike">
                <a:solidFill>
                  <a:srgbClr val="000000"/>
                </a:solidFill>
                <a:latin typeface="TrashHand"/>
              </a:rPr>
              <a:t>e gioca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1240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ashHand"/>
              </a:rPr>
              <a:t>Proposta di strumenti per l’avvicinamento di un caso autistico a “Strega tocca col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5591160"/>
            <a:ext cx="6477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MELIA POND"/>
              </a:rPr>
              <a:t>Mariasole Bondio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MELIA POND"/>
              </a:rPr>
              <a:t>Magistrale informatica umani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781680" y="0"/>
            <a:ext cx="2584440" cy="2914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177804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rashHand"/>
              </a:rPr>
              <a:t>Lavoro a tavolino:obiettiv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amiliarizzare con i colori e la loro espressione in CAA attraverso attività più o meno lud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amiliarizzare con le regole del gioco prima della loro applic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mpratichirsi con il gioco fino a magari arrivare a simulare una versione ‘a tavolino’ del gio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ashHand"/>
              </a:rPr>
              <a:t>Gioco con gli altri bambin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acilitare l’inclusione con tutti i mezzi possi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vitare il più possib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mportamenti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acilitare la comunicazi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 lo svolgimento del gioco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62520" y="2448000"/>
            <a:ext cx="51814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shHand"/>
              </a:rPr>
              <a:t>3-  Riprendere tutti gli strumenti che possono essere considerati utili per intraprendere il percorso progettato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Strumenti necessari per gli obiettivi individua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La familizarizzazione/il gioco coi colori-rinfor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(boardmaker, oggetti materi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- L’apprendimento delle regole (la città educante, CAA, ogget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La comunicazione nel gioco vero e prop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(CAA, oggetti materi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shHand"/>
              </a:rPr>
              <a:t>In sostanz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possibili oggetti materiali: es. cappello da str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la C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vari software (principalmente boardma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Videomod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Programmi per diseg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ashHa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ue tavole diver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Per l’apprendimento delle regole (rigi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Per la comunicazione durante il gioco (mobi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50292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shHand"/>
              </a:rPr>
              <a:t>Tavola per l’apprendimento delle reg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amiliarizzata a tavol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tessi simboli che nei giochi sui col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Potrebbe essere in alcuni casi, in alcune parti utilizzata per consegna esercizi/giochi con l’educ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rashHand"/>
              </a:rPr>
              <a:t>Tavola per il gioc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eve contenere la frase 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trega tocca color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ssa più tutti i col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eve contenere rappresentate tutte le altre necessità del bambino (pausa, aiuto, non ho capito, devo andare in bagno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rashHand"/>
              </a:rPr>
              <a:t>Come scrivere una c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enere di partenza frasi sempl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celta di tradurre o meno tutte le parole in simb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ecessità di schematizzare le regole prima di partire con il reale processo di simbo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lessibilità a seconda dei c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shHand"/>
              </a:rPr>
              <a:t>Oggetti materi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aranno utili in varie fas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el percor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l tavolino con possibili giochi sugli      oggetti e i col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s. Mettere una serie di oggetti rossi in una cesta con l’etichetta CAA rosso   (immag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el corso del gioco: es. cappello che indossa la strega, magari indossato anche dall’educ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95880" y="0"/>
            <a:ext cx="27385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TrashHand"/>
              </a:rPr>
              <a:t>Boardmak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isegni (per  dei rinforzi, passatempi, ma comunque collegati dai color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ssociazioni (colore-colore/oggetto-colo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caffale del color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quenze da riordinare (questo anche nella città educant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shHand"/>
              </a:rPr>
              <a:t>Il progetto in bre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it-IT" sz="3200" spc="-1" strike="noStrike">
                <a:solidFill>
                  <a:srgbClr val="000000"/>
                </a:solidFill>
                <a:latin typeface="Constantia"/>
              </a:rPr>
              <a:t>Strega tocca color</a:t>
            </a: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 è un gioco che quasi tutti conosciamo. Ma come si può imparare a giocare se si è un bambino autistico? Cos’è il mondo, con i suoi colori, visto da un soggetto portatore di autismo? E soprattutto, quali strumenti si possono pensare per facilitare alcune possibili risposte a queste doman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rashHand"/>
              </a:rPr>
              <a:t>Future propos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Software per diseg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Videomodelling con riprese mirate a far comprendere al bambino le diverse fasi del gioco, con le spiegazioni con la sua C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00600" y="1219320"/>
            <a:ext cx="393696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shHand"/>
              </a:rPr>
              <a:t>Grazie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2578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ashHand"/>
              </a:rPr>
              <a:t>Non educatrice, non insegnante di sostegno né logopedista..allora ch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Qualcuno che può forn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tali figure professionali la s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noscenza ed esperi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ecnica per ciò che rigua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li STRUMEN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’ da qui che nasce l’idea di progettare un K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638680" y="1523880"/>
            <a:ext cx="35053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rashHand"/>
              </a:rPr>
              <a:t>IL GIOC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ioco di gruppo: più si è meglio 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iù consono all’aper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ul modello di ‘acchiappino’, ‘flash’..ec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asati sul mov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biettivo: non farsi prendere e ritrovarsi a fare la ‘strega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eculiarità: interazione con l’ambiente esterno, ciò che circonda i giocatori è determinante per l’esito dei giocatori. I colori sono centra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shHand"/>
              </a:rPr>
              <a:t>Un buon punto di partenza per un progetto con un soggetto autis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ioco molto adatto all’inclusione sia a scuola sia nel tempo lib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ssibile apprendimento del funzionamento del gioco attraverso diverse fa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ssibile percorso più ampio sui col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ssibilità, dunque, di utilizzare alcuni degli ausili appresi nel corso delle lezioni per facilitare e aggiungere qualcosa all’apprendimento del gio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ashHand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rashHand"/>
              </a:rPr>
              <a:t>alla ricerca di strumenti..Ripartire da z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nsare a chi deve imparare a giocare, per chi si stanno progettando le attiv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pensare così a un gioco che si è sempre conosciuto, provare a vederlo in una nuova prospet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andire bene le fasi dell’apprendimento con cui ci si dovrà confrontare per l’ideazione degli stru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lezionare tutti gli stru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e possono essere consider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tili per intraprendere il per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get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5. Creare un ipotetico kit del gio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3724200"/>
            <a:ext cx="29052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ashHand"/>
              </a:rPr>
              <a:t>1-   pensare a chi deve imparare a giocare, per chi si stanno progettando le attivit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ifferente percezione sensoriale: A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•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astidio e/o intolleranza a rumori forti, urla, ambienti rumorosi come la classe e la mens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at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•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astidio e/o intolleranza al tatto: vestiti sulla pelle, essere toccat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anale visi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•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olitamente più svilupp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•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pprendimento sostenuto da immagi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ashHand"/>
              </a:rPr>
              <a:t>2-   ripensare a un gioco che si è sempre conosciuto, provare a vederlo in una nuova prospettiv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i sono dei ruoli prec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i sono delle reg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i sono i col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'è un mondo est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on cui è indispensab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teragire attraverso il ta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22880" y="2057400"/>
            <a:ext cx="3021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ashHand"/>
              </a:rPr>
              <a:t>3- Scandire bene le fasi dell’apprendimento e del gioco con cui ci si dovrà confrontare per l’ideazione degli strume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.1   Lavoro del bambino sul gioco e sui     colori (con l’educatrice, l’insegnante di sostegno, i genito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.2   Gioco con gli altri bamb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b. Sicuramente la gestione di queste due macrofasi varierà da caso a caso, per questo il progetto proposto è stato pensato con delle linee guida che necessitano di essere adeguate alle necessità reali di ognu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10:08:50Z</dcterms:created>
  <dc:creator>Soool</dc:creator>
  <dc:description/>
  <dc:language>en-US</dc:language>
  <cp:lastModifiedBy>HP</cp:lastModifiedBy>
  <dcterms:modified xsi:type="dcterms:W3CDTF">2015-12-14T14:43:52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